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23287"/>
        <c:axId val="51791188"/>
      </c:barChart>
      <c:catAx>
        <c:axId val="25923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91188"/>
        <c:crosses val="autoZero"/>
        <c:auto val="1"/>
        <c:lblAlgn val="ctr"/>
        <c:lblOffset val="100"/>
        <c:noMultiLvlLbl val="0"/>
      </c:catAx>
      <c:valAx>
        <c:axId val="51791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23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F65-BD70-4AE4-B378-A6EFD0BC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DA3-731C-49D2-9E6C-69FC4E72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E6E-D034-4F24-8849-E29C3DBD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14B-86DE-4C5B-95AB-A4495056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42B-2319-4A46-9664-A85E2A86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8E8-D6FD-49D4-97DC-F4E36D8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6A0-3D63-4A4B-A222-B6FF9FF2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50D-AFA3-43D0-8FD6-D52202E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950-29BB-4A84-914C-20030B3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86A-7012-442C-A661-F9B00F1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EB3-FC94-401B-9555-702B4C0D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80F-9448-492A-B1F7-0AEF463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8DD0B-5761-4530-8E09-0D7BE7E6B7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