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8103"/>
        <c:axId val="58439538"/>
      </c:barChart>
      <c:catAx>
        <c:axId val="54198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9538"/>
        <c:crosses val="autoZero"/>
        <c:auto val="1"/>
        <c:lblAlgn val="ctr"/>
        <c:lblOffset val="100"/>
        <c:noMultiLvlLbl val="0"/>
      </c:catAx>
      <c:valAx>
        <c:axId val="58439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8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107-49CE-4C36-8C5B-1BFF3B6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AAD-80C9-415B-8493-095F92F9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71E-29E2-46AB-9CE0-0DDD5888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771-7062-43DB-9B27-63E4DCD8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6CE-41FF-461B-AAE2-17BBA5A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9A9-D764-4278-B0DB-19B6E85D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B1F-4E3A-477C-82F1-0DFDA2A6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76E-78D1-4C5B-926E-D3A03E9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798-BD5A-4E4A-B78A-68D535A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EF1-8A8A-4734-ABE9-2116D94C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A66-7DF3-4F90-9A23-25BB288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10D-3071-4046-AA2C-D2059C2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B4A8-187C-40F2-B2B3-42AF9EA93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