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287402"/>
        <c:axId val="36176903"/>
      </c:barChart>
      <c:catAx>
        <c:axId val="812874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76903"/>
        <c:crosses val="autoZero"/>
        <c:auto val="1"/>
        <c:lblAlgn val="ctr"/>
        <c:lblOffset val="100"/>
        <c:noMultiLvlLbl val="0"/>
      </c:catAx>
      <c:valAx>
        <c:axId val="361769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874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58FA-E21E-4F77-B5C3-77D77369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0576-3E2A-4837-A85C-F827D741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89B9-F12D-431B-9874-552C60BF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E4DC-989A-42A9-BB71-39B3443C2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9A97-511D-4885-B16D-7E547185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6198-FBCE-41E7-9AB2-AF78C90F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C024-3B70-4D1C-ACB6-5CADC800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3FBE-8E43-44A6-87CF-5BFAD10F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A553-4613-4E01-BC8D-7BC6B169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47F3-ED1C-4A34-9BB3-6A7B21CC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16C4-34AD-4D56-AF25-C94BBCC0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54DA-F5EE-4C11-A60B-E90E64B8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8F4F5-0B09-477A-8B99-C1B00C907D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