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33670"/>
        <c:axId val="42430238"/>
      </c:barChart>
      <c:catAx>
        <c:axId val="59433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0238"/>
        <c:crosses val="autoZero"/>
        <c:auto val="1"/>
        <c:lblAlgn val="ctr"/>
        <c:lblOffset val="100"/>
        <c:noMultiLvlLbl val="0"/>
      </c:catAx>
      <c:valAx>
        <c:axId val="42430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33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CCD-8FC8-415B-AE37-84C7C7B8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5DA-EE14-44F4-A6F7-1B98CAF6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C7B-52BF-47AA-B6A0-13A1665C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418-23BC-4D2B-8238-41112B1C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20A-8F1E-4026-BC3A-11A12012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43B-7ADF-4811-BCD5-97AFB19D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ADE-9130-4F6A-8A00-43FF55C6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983-BDCA-42A0-9780-A7DD9394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117-9F62-4608-969D-B48625FE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F40-314F-43DB-88F6-5C469C61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9CA-D2E8-49DC-96BD-14AF814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91B-FA92-4EFD-9473-5B0C74D4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F29F1-D6B0-41E6-9A60-D071AD513D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