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96386"/>
        <c:axId val="51639065"/>
      </c:barChart>
      <c:catAx>
        <c:axId val="40996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39065"/>
        <c:crosses val="autoZero"/>
        <c:auto val="1"/>
        <c:lblAlgn val="ctr"/>
        <c:lblOffset val="100"/>
        <c:noMultiLvlLbl val="0"/>
      </c:catAx>
      <c:valAx>
        <c:axId val="51639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6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850-EB98-426D-80C9-9ADEE1C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8C0-5355-46D6-A66F-3CF620F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409-5242-4FF0-9035-DC1AAE37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9CB-3BD7-4FC1-B40E-679B7E9B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485-947A-406F-A6BD-76C7243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3E8-7699-42B5-83FA-58A1212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0EB-E2F4-45F7-A3E9-EA17D720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9E9-54C8-463F-B30E-37B475F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385-1DE6-4029-8363-444FF70B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F97-A25D-4E74-933D-E50AF11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6B9-7EC6-4C49-82A7-422DA8E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899-39FD-4432-819C-427BC88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DCC5E-247D-4684-8220-EC433533D9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