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71371"/>
        <c:axId val="1917924"/>
      </c:barChart>
      <c:catAx>
        <c:axId val="36971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924"/>
        <c:crosses val="autoZero"/>
        <c:auto val="1"/>
        <c:lblAlgn val="ctr"/>
        <c:lblOffset val="100"/>
        <c:noMultiLvlLbl val="0"/>
      </c:catAx>
      <c:valAx>
        <c:axId val="1917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71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9DE-8188-4443-8027-1CE57162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C60-54D2-4EBA-BE2E-9D1F93A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B55-59BA-4424-B7D5-C52E135D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1F-E68A-4783-AA02-AD0D2169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745-A4B0-4887-852B-2C051B0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90B-484D-4D57-B208-0756D9E9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676-9ECC-459B-A97B-F4CA3EE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9E7-A548-4170-8975-442B96F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32-47DA-41C2-B8C2-81BBB4FC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4CD-C97E-4FC2-8C03-9781C5B3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6BF-59A1-4665-BBCB-E020F4E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74F-1AA4-4B08-9115-68B553E5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F20C4-9F5A-4219-A664-5A835D5EE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