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4853"/>
        <c:axId val="72687527"/>
      </c:barChart>
      <c:catAx>
        <c:axId val="2424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87527"/>
        <c:crosses val="autoZero"/>
        <c:auto val="1"/>
        <c:lblAlgn val="ctr"/>
        <c:lblOffset val="100"/>
        <c:noMultiLvlLbl val="0"/>
      </c:catAx>
      <c:valAx>
        <c:axId val="7268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4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D97-3672-406D-873C-9320713F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2DB-171A-4CDA-BBB1-18B04C9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6E8-092D-42B4-ACC0-9F2C12C6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21C-A499-483D-B745-FFF84D3D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BD5-46E4-4BAA-AD5C-7B51939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171-2DFC-4959-A03E-D26EDB53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08B-996E-48D4-8E7E-1F27368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82D-0123-49BA-B499-255CC6D5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6EC-EB81-42B5-B330-24DC3C8B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054-8E28-4B46-8968-DEB385A3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47A-48AB-4656-8174-A9D42B0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ECB-73E9-40E5-8728-F076CDA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7D2E4-4A81-445C-B022-46981B62FA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