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09663"/>
        <c:axId val="13244511"/>
      </c:barChart>
      <c:catAx>
        <c:axId val="77109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44511"/>
        <c:crosses val="autoZero"/>
        <c:auto val="1"/>
        <c:lblAlgn val="ctr"/>
        <c:lblOffset val="100"/>
        <c:noMultiLvlLbl val="0"/>
      </c:catAx>
      <c:valAx>
        <c:axId val="13244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09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C09-646F-44D0-B5F6-572A7319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AB4-DE6F-4766-9157-B747719F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FAA-343C-4C53-B596-3C2D375C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60C-2E22-44A8-B5A9-1A2E3E0C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AA9-4184-4BD3-BF93-916B98E7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DA9-24BA-4C48-8ECA-61D5383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CE1-1DEC-45B7-974C-0498C13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AEA-BB56-4DC3-8C33-401D17F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FE2-0CFF-420F-85D3-7D13EB30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4AC-480C-47D4-92E7-763272F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EAE-0BE6-4CDD-9AFE-A5FADA5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2CB-24FC-4948-AB65-D2CAFCF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9C9B-7A79-4958-B7F3-0B46B71A3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