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370438"/>
        <c:axId val="11477192"/>
      </c:barChart>
      <c:catAx>
        <c:axId val="733704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77192"/>
        <c:crosses val="autoZero"/>
        <c:auto val="1"/>
        <c:lblAlgn val="ctr"/>
        <c:lblOffset val="100"/>
        <c:noMultiLvlLbl val="0"/>
      </c:catAx>
      <c:valAx>
        <c:axId val="11477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704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FE4-C9E6-46A8-B7BD-2F5B1027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015-1CB1-4469-85CF-17CAF361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22BC-9AC2-45D6-8E3C-F09C4C23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611-44F5-4B0E-AC27-9EEEB94F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C98-A0AB-442A-BC28-850B46F0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D30-33B1-4F03-A802-BEFA1280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BFF-375E-413B-9844-153AFCDF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C163-5167-4DF5-A00F-8B70CC95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803-DBBD-4260-8184-C18F2D4D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0478-DFE2-439D-9AC0-6DB65E63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585E-A5F8-428D-A3B4-D6A0CF94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E3F9-EC36-442E-B6C8-F2044E70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D5833-E823-49F1-8EF1-C88AE6E2A9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