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66508"/>
        <c:axId val="70545145"/>
      </c:barChart>
      <c:catAx>
        <c:axId val="79366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45145"/>
        <c:crosses val="autoZero"/>
        <c:auto val="1"/>
        <c:lblAlgn val="ctr"/>
        <c:lblOffset val="100"/>
        <c:noMultiLvlLbl val="0"/>
      </c:catAx>
      <c:valAx>
        <c:axId val="70545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6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104-CA54-4D5B-AA52-4A4A8C86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DD2-2CDB-465F-9E02-0C7F953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370-7E32-4C14-8011-88DE513F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278-AD9A-41C7-8906-E2F75C0B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61C-3698-4C6C-A06A-F98EEC04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798-1962-4DC1-A23C-E3CC513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AE6-6183-4F66-A557-78ED299C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F03-7B65-49DF-A619-6E092BA4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DCF-7157-48DE-8216-37D2DD36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B32-BC45-4AC0-A170-BFE006D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BCD-3B95-4E9F-B682-3B9D6DB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C78-9E6E-40D7-A428-854E253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FB19C-45A6-4372-84FD-DD1BC4A5CE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