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46828"/>
        <c:axId val="52938082"/>
      </c:barChart>
      <c:catAx>
        <c:axId val="25146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38082"/>
        <c:crosses val="autoZero"/>
        <c:auto val="1"/>
        <c:lblAlgn val="ctr"/>
        <c:lblOffset val="100"/>
        <c:noMultiLvlLbl val="0"/>
      </c:catAx>
      <c:valAx>
        <c:axId val="52938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46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CDC-0712-4026-9E58-2C9F8DB5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C96-E331-46FC-B5E2-90E3A1B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8B9-D901-4ADC-939D-9269F273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7E4-7B95-4ABF-A47D-0B57BE83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37D-CAD6-400A-9D6F-DCC1AC3A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2F3-C9B9-43AD-990E-78F2A7B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5C7-0361-48F9-8E0A-DEEF749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E15-249B-4E64-A83C-6F7999A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B20-AC4E-4C22-9ED7-12A51C5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FF2-3EB1-48FE-A8F8-BCBEA57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B81-3055-48B8-AC56-AE3A73B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451-49C8-460B-81C4-2E20750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A2BC-9792-4FCD-BFD6-8DBB08184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