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17914"/>
        <c:axId val="15600355"/>
      </c:barChart>
      <c:catAx>
        <c:axId val="40117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00355"/>
        <c:crosses val="autoZero"/>
        <c:auto val="1"/>
        <c:lblAlgn val="ctr"/>
        <c:lblOffset val="100"/>
        <c:noMultiLvlLbl val="0"/>
      </c:catAx>
      <c:valAx>
        <c:axId val="15600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17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395-BA18-43F4-A827-27344868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D8B-2915-40A4-A58A-867CDE7D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459-0392-4D1C-B47A-9B80EB2C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C28-5A76-43B7-AD64-B764B735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F80-F98F-417D-BA97-C9BAF8E4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0D6-CF9A-4BD5-8467-7AFCCCB9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E2D-6C51-4914-8F52-2E980EDF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B61-F681-4510-BB55-1948FD66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B23-6DC1-41CB-8EF2-894BC7D0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9AD-E5AB-471F-8CBF-AC3A0B1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73E-E475-4785-BA68-6F89C5FD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B3A-51D6-409B-A7BC-36808949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43B3B-9CB2-472A-9B63-1E84E0E011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