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30583"/>
        <c:axId val="57549917"/>
      </c:barChart>
      <c:catAx>
        <c:axId val="25530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49917"/>
        <c:crosses val="autoZero"/>
        <c:auto val="1"/>
        <c:lblAlgn val="ctr"/>
        <c:lblOffset val="100"/>
        <c:noMultiLvlLbl val="0"/>
      </c:catAx>
      <c:valAx>
        <c:axId val="57549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30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020-2762-4E05-865A-0BB2C649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C4E-9FA0-4F31-8CD1-5B50C6E2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729-E910-4418-A5C3-EEC31BE3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454-F6F6-4545-A913-A1B68CF6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E1B-B1F5-46DC-A487-456AD6DD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668-4833-4EFE-BB9C-9ED56CDF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C89-1F1D-4BA3-83A7-4FF3E22A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2C6-4ABB-40D2-BC3B-4C4A8FD2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050-FDB4-4727-A55C-A7CB2096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5C5-F650-4E2F-869E-C375011E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A54-8FCA-4C29-BF2A-931BBEEC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18D-E599-47BE-818A-5B287861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A8A43-D200-419A-8C60-A722264AA1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