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28831"/>
        <c:axId val="98123633"/>
      </c:barChart>
      <c:catAx>
        <c:axId val="68828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23633"/>
        <c:crosses val="autoZero"/>
        <c:auto val="1"/>
        <c:lblAlgn val="ctr"/>
        <c:lblOffset val="100"/>
        <c:noMultiLvlLbl val="0"/>
      </c:catAx>
      <c:valAx>
        <c:axId val="98123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28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3D0-7E7B-40D2-85EA-5D07C50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886-5B74-493B-9B7C-073C20D3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FD7-C9FC-43FC-93E7-99F5A7A7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710-06CB-4C1F-B784-73F0AFE7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297-E6A1-4070-82C2-7E143FD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453-D1F1-4F71-846B-ED4B329B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5C7-921C-4783-99DC-049E4E68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CF7-C047-4D83-83F7-99E09882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628-8EC5-4006-BC90-05D98958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A9A-075A-4D85-8235-F9B2FCBC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300-AF5F-4A8F-A1D6-532A0B64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805-4CA6-4CF1-BA3A-F3A8497C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F04FA-9C0D-4875-AB35-A08D2AC27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