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91497"/>
        <c:axId val="21544288"/>
      </c:barChart>
      <c:catAx>
        <c:axId val="259914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44288"/>
        <c:crosses val="autoZero"/>
        <c:auto val="1"/>
        <c:lblAlgn val="ctr"/>
        <c:lblOffset val="100"/>
        <c:noMultiLvlLbl val="0"/>
      </c:catAx>
      <c:valAx>
        <c:axId val="215442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914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2DDB-3F7B-454E-B1D6-777640D6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B854-C4E5-4222-8C3D-FCB04B6C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6464-D0D1-4B0E-93AE-4506D13B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BF1F-F956-4746-9D1E-A9295802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E989-69F9-4775-93E4-DA639988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5CC9-14D5-4DB3-9DEF-8665E19D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6F32-9EFB-4E0B-900F-C60F215F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4A64-AEE4-46BF-9E1A-6D63023D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3AF6-F60E-43BE-BB97-2ABA0517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0229-B8EA-46ED-BBB7-03B802A9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EF4B-B8AF-4268-BD0F-49EF8950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6A1-D021-4682-9292-C8CA8FC0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AB1A2-1772-4992-B0A2-6F5F3BC2C5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