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54525"/>
        <c:axId val="85647669"/>
      </c:barChart>
      <c:catAx>
        <c:axId val="22654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7669"/>
        <c:crosses val="autoZero"/>
        <c:auto val="1"/>
        <c:lblAlgn val="ctr"/>
        <c:lblOffset val="100"/>
        <c:noMultiLvlLbl val="0"/>
      </c:catAx>
      <c:valAx>
        <c:axId val="85647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54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DB5-A194-482E-B6C5-2E4C11F1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6E9-B38A-4317-B07D-1D879D3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889-DF69-4D35-A319-79934BB3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D96-A70B-4C63-8972-E89E643A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A05-3BAD-43DC-ABCF-3D69909B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880-38C2-4251-B9F7-4308058A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BBE-0543-40E6-8B91-E32DB01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629-AF98-43B9-9460-B75EC0CB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8BD-B295-4C1F-A33E-BC950B64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66C-7E01-46EF-A71B-AA9D2DF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2EB-0C1B-40E9-A3F6-1F79CC04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467-7109-4CD1-8889-A9C56F59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F8332-3AD2-4FB6-AA70-11F66DD993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