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57910"/>
        <c:axId val="89847233"/>
      </c:barChart>
      <c:catAx>
        <c:axId val="24657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47233"/>
        <c:crosses val="autoZero"/>
        <c:auto val="1"/>
        <c:lblAlgn val="ctr"/>
        <c:lblOffset val="100"/>
        <c:noMultiLvlLbl val="0"/>
      </c:catAx>
      <c:valAx>
        <c:axId val="898472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57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584-B8AE-4807-BF09-30CE267C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DD3-3AC4-4A08-AD14-ADD5243B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5BB-75D0-4891-8AB4-6D21370A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2B5-3950-4E4E-8E18-C8A6551A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D4B-9581-43E5-B431-B31E6173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E41-F639-4F99-A3B0-82006DDE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3D5-079B-4962-A984-97C57D4B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243-9632-4F92-8F07-EBC564C8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847-D79C-4617-BE3A-246A81EB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72E-D9AD-45D7-8FCF-1C8CEB1C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2DB-8BAE-4BA7-8592-C711251C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BA8-31E6-4F03-B295-5EFBAB02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DB73E-BEF6-4A9B-962A-A3015115E9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