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19854"/>
        <c:axId val="46985054"/>
      </c:barChart>
      <c:catAx>
        <c:axId val="38419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85054"/>
        <c:crosses val="autoZero"/>
        <c:auto val="1"/>
        <c:lblAlgn val="ctr"/>
        <c:lblOffset val="100"/>
        <c:noMultiLvlLbl val="0"/>
      </c:catAx>
      <c:valAx>
        <c:axId val="46985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19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125-1243-4ECE-AEF7-8DB599B3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2CD-0F33-4069-BCAF-0A2B3702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088-050F-4FCE-9620-160BC1B5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E71-8D78-48BD-B88A-881669ED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7E1-0038-42E0-A021-45B0651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9FD-3463-4DE3-9C7D-C6B48838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A64-4657-498A-8DA5-C8FCF677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587-D6D6-456A-ABDD-A9B631F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624-BC2D-4C7A-9D2A-58FF0E06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8C6-1884-4AF5-9C55-6277923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444-BD8F-4A20-9350-48CBADE3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B10-55B3-4E76-BC48-818B0A94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52387-F5B1-41C5-8EC5-4E014F93DF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