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77856"/>
        <c:axId val="2786147"/>
      </c:barChart>
      <c:catAx>
        <c:axId val="58477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6147"/>
        <c:crosses val="autoZero"/>
        <c:auto val="1"/>
        <c:lblAlgn val="ctr"/>
        <c:lblOffset val="100"/>
        <c:noMultiLvlLbl val="0"/>
      </c:catAx>
      <c:valAx>
        <c:axId val="2786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77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B09-FD06-4E38-937E-E69A6D5A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F0F-05FA-45A7-B23C-5787FB9D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04A-FDAA-4C23-B70D-7920A14F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8BB-0341-4C90-AD9B-D692235B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B60-5A69-4210-A126-A2305AB3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AEE-49AF-47FF-8AE6-432F8D2B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643-8206-4A87-B0E9-C9612B37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0F1-718F-4394-BFA1-B621849D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D7D-FB76-419B-8F4D-3D696EE9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3FB-6D69-4237-B9AE-E42DB28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B6E-97FE-4331-B1C2-AA26548D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432-1A52-4F8A-8F59-A7921536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01F08-3650-47FF-9F7B-171B3677C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