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83266"/>
        <c:axId val="53089603"/>
      </c:barChart>
      <c:catAx>
        <c:axId val="85783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89603"/>
        <c:crosses val="autoZero"/>
        <c:auto val="1"/>
        <c:lblAlgn val="ctr"/>
        <c:lblOffset val="100"/>
        <c:noMultiLvlLbl val="0"/>
      </c:catAx>
      <c:valAx>
        <c:axId val="53089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83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2F5-A178-475F-BE58-87B15D5B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155-B64D-46C2-996F-60266D6A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9E9-C34C-433C-8FD3-05A1BBE9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FDB-27C7-4A2F-BD8A-9F736854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130-2C67-4F52-965A-5AEB3DE9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F58-18CC-4689-B4C8-051B77E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4CD-A752-4796-AC0D-BB31C672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007-5F29-4759-A2ED-6ED5732A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47C-DD34-414D-BBFC-11F0292D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E6F-D2CF-4093-A792-2B03C896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3AD-AE97-4595-8AC8-C01970E4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9E7-912A-44C3-AE08-D62030B1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E5CF4-88E5-4454-B9BE-90CAB313AC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