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8302573"/>
        <c:axId val="37288386"/>
      </c:barChart>
      <c:catAx>
        <c:axId val="9830257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288386"/>
        <c:crosses val="autoZero"/>
        <c:auto val="1"/>
        <c:lblAlgn val="ctr"/>
        <c:lblOffset val="100"/>
        <c:noMultiLvlLbl val="0"/>
      </c:catAx>
      <c:valAx>
        <c:axId val="3728838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30257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0AEF-2EB3-43A4-A4FE-7F2B0C49E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6D89-3979-403E-BF62-CF4CB33D0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F029-8972-408D-8D82-C7482D403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9675-EE40-44B1-9FEB-9365FFAF1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2E08-FC53-447D-816E-23D69FA7F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1811-3848-4E8C-9587-BD43CC39D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E1B4-866C-425E-B1DE-8B95CC990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3919-BC21-49C6-9889-35584766A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E2FC-39D9-4B74-B28B-04959CF86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6F35-3643-4E53-9AC5-CE749041B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76C6-EE03-4D01-B060-5DF87B915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0DDC-0246-4AC3-ADC4-AD37F85DA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A38D0D-DE8F-4D78-8A7E-93153B7608A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