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989899"/>
        <c:axId val="32189886"/>
      </c:barChart>
      <c:catAx>
        <c:axId val="449898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89886"/>
        <c:crosses val="autoZero"/>
        <c:auto val="1"/>
        <c:lblAlgn val="ctr"/>
        <c:lblOffset val="100"/>
        <c:noMultiLvlLbl val="0"/>
      </c:catAx>
      <c:valAx>
        <c:axId val="321898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898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DC6C-8A4C-4417-A1A6-78C60018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F093-CCB2-48F9-83EC-086EF91F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4FC5-D0E6-4616-A20A-0937B217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6C0A-1868-4EA4-89E0-71F63DAB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5A0A-36E0-4220-9B60-FEE8BD40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34E9-0CB4-4A77-BEA6-40D60A3D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8E24-65DF-49EF-8D50-992161E1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C0C6-83D0-48D8-BA31-060D7BC5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BD40-44EA-4E4D-AE7A-F5C3ECB4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8124-471D-456F-857D-3FEB41FF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5AD7-5894-4912-B58A-1C4D02B7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7E03-FEE1-4F44-B6EF-BAF6C3A8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3DB9D-1F63-471F-80DE-C7EC763F23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