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24631"/>
        <c:axId val="72540213"/>
      </c:barChart>
      <c:catAx>
        <c:axId val="12324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40213"/>
        <c:crosses val="autoZero"/>
        <c:auto val="1"/>
        <c:lblAlgn val="ctr"/>
        <c:lblOffset val="100"/>
        <c:noMultiLvlLbl val="0"/>
      </c:catAx>
      <c:valAx>
        <c:axId val="72540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4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8E6-CF1E-4281-9CC5-F66544D4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52F-997E-40F4-8509-1C59A80F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6BB-7445-4F27-9E88-D362635A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389-70CA-4DFD-966D-47B81D91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2C9-EEAA-4307-8D64-E9E98EC0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EAC-DF60-488B-BB5A-7FB79CC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64D-1782-4364-8884-5C308083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372-A89D-4AEF-A3D9-E850979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44F-6690-4BFA-AFA5-354DBFD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0B2-CA2F-429D-AEB5-230F648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849-6CCE-4BDB-A7F2-B314A3CF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0DE-27BB-4883-B384-9296881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394A4-2A67-4F5C-A87A-73CD21F8C4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