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464912"/>
        <c:axId val="12428235"/>
      </c:barChart>
      <c:catAx>
        <c:axId val="554649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428235"/>
        <c:crosses val="autoZero"/>
        <c:auto val="1"/>
        <c:lblAlgn val="ctr"/>
        <c:lblOffset val="100"/>
        <c:noMultiLvlLbl val="0"/>
      </c:catAx>
      <c:valAx>
        <c:axId val="124282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649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37EE-EFBC-4611-B982-68A22660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5B7E-9DAC-49EA-ACE6-E5306BBC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9E3F-32CE-4DA4-9307-79155AE49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868B-9C56-474E-949E-11636E886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E3CF-5581-45F6-980B-AAB6C2AA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1B2F-BD46-497E-9DD9-5669C497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D80E-5AA1-421B-84B9-F622830C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C637-123E-4301-B472-573B38AB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AD5A-7E98-46A3-819E-0843B906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1198-7584-44E7-830B-0F9388F8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8887-F14E-40B3-BDF6-DB7DA2AE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B461-0E4A-4CB7-BED5-DBF2B4E6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777FD-E26A-4199-9520-ED722E3F06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