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40622"/>
        <c:axId val="72490638"/>
      </c:barChart>
      <c:catAx>
        <c:axId val="789406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90638"/>
        <c:crosses val="autoZero"/>
        <c:auto val="1"/>
        <c:lblAlgn val="ctr"/>
        <c:lblOffset val="100"/>
        <c:noMultiLvlLbl val="0"/>
      </c:catAx>
      <c:valAx>
        <c:axId val="724906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406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805-2BF2-45A3-A004-DF12B8A6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078-B870-4D11-946A-540B627C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5AA-C2F7-4297-BB10-ED163909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A59-CC63-4005-B9B5-81161D31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6AFA-F81C-4194-B75D-B256259A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53A-E1B4-421E-A861-222FAC0C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E3D-B470-410E-A1F8-50639165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E86-CA61-4ED5-BB29-922C6F96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930-C043-431D-9DAF-13BC69E1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B5C-FC69-49B0-9675-3488FEE4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479-E37A-4F84-BFF9-E4B67B46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C7F8-B128-42A0-B27A-5F807C2C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E91C4-9690-4314-A73F-3C020D4521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