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56858"/>
        <c:axId val="15056870"/>
      </c:barChart>
      <c:catAx>
        <c:axId val="54556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56870"/>
        <c:crosses val="autoZero"/>
        <c:auto val="1"/>
        <c:lblAlgn val="ctr"/>
        <c:lblOffset val="100"/>
        <c:noMultiLvlLbl val="0"/>
      </c:catAx>
      <c:valAx>
        <c:axId val="15056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56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922-4C65-4171-B52C-05FA156D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8FD-5121-45D2-BB60-193EE8BE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C74-A202-4461-84C1-A30C27D5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8F3-FC65-447D-BBCC-AB321DDC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99C2-E20E-460A-8E48-1A0363C3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C79C-6DDD-4763-B37C-3921C9B9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E38-7FBC-443F-B6F3-BF9CEA66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DD1-2296-402F-A925-B72E840D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FFB-6043-469A-B700-5C558C69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1A0-47AC-4BED-A12F-67A030D3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A5F-C19A-4F27-A728-5BA0F934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525-D900-43E9-A3D4-7D0EC831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4588B-1A1E-4519-915D-EDA9A8E2F5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