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21305"/>
        <c:axId val="7947723"/>
      </c:barChart>
      <c:catAx>
        <c:axId val="91021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7723"/>
        <c:crosses val="autoZero"/>
        <c:auto val="1"/>
        <c:lblAlgn val="ctr"/>
        <c:lblOffset val="100"/>
        <c:noMultiLvlLbl val="0"/>
      </c:catAx>
      <c:valAx>
        <c:axId val="7947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21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631-8A80-4CF2-8FB4-AC283119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023-556E-427E-8A6C-B927E3C6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D86-79D3-4996-A49F-4A7B4F0D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900-3E55-443E-8A0A-BF0A42CE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AA0-042B-4A01-9980-07AB7A69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3BB-DF90-4F9A-A9C8-399C8CBB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085-FFA8-490E-8FB5-6CD96052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FF7-52D9-485A-AAFF-DAA51ECB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716-2067-4402-96F7-9A0B8127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F39-3B59-4BDF-8D89-3F19A766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3E0-A02A-4924-B0DB-3B99EB4D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656-F50C-4B83-8B04-938EF216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605E9-AEFA-4C30-B6D7-AA5FCF0024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