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90856"/>
        <c:axId val="88901345"/>
      </c:barChart>
      <c:catAx>
        <c:axId val="37790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1345"/>
        <c:crosses val="autoZero"/>
        <c:auto val="1"/>
        <c:lblAlgn val="ctr"/>
        <c:lblOffset val="100"/>
        <c:noMultiLvlLbl val="0"/>
      </c:catAx>
      <c:valAx>
        <c:axId val="88901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90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6DD-42A3-4249-A102-34426A5D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F57-64DC-42E4-8049-6B8C7A4F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496-6EC1-4E88-BCD5-547F7E4A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2BC-C3BE-4909-ACEA-8047946F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B5A-E8BC-4C6E-8ACA-5F58F3B7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405-EFB4-499A-A36E-1E736056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542-2858-490F-946D-D9598D32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55C-575E-4793-9B15-70C0E99D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90C-1D49-410C-87FF-38EF6FCB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6AC-AE9B-4140-AC69-91DAF67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28D-10A8-459A-AB8E-855A370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A09-F999-4D43-BADE-DFA440F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5BF4F-4CFE-4BCE-AD58-C237647B94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