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4364186"/>
        <c:axId val="52489302"/>
      </c:barChart>
      <c:catAx>
        <c:axId val="4436418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489302"/>
        <c:crosses val="autoZero"/>
        <c:auto val="1"/>
        <c:lblAlgn val="ctr"/>
        <c:lblOffset val="100"/>
        <c:noMultiLvlLbl val="0"/>
      </c:catAx>
      <c:valAx>
        <c:axId val="5248930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36418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772BA-ACE9-48EF-B115-8C1E45A3D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ED674-1812-4D63-8823-CACDF33AF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3F51C-E7D6-4708-9993-5839E3636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7976A-8B96-47C2-9CF0-6DE9FC767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B61D3-C8B9-41B7-B3CD-00FDE453B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FA685-95CD-4F07-A187-5304B60DC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C0A64-411D-4D17-8156-7D66CF396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E8599-1431-4E18-8530-673259CF6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10A8F-8BBD-4154-B8BA-1E1FC4E41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E15BC-7CD5-4FD3-BFA8-3DB06A97D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0F97E-A224-4B60-8D84-FA441AA1A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0323F-6637-4B67-A3EE-B0A52FA72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63B45E-2676-4765-B164-09F70F6390B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