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31425"/>
        <c:axId val="1158673"/>
      </c:barChart>
      <c:catAx>
        <c:axId val="36731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8673"/>
        <c:crosses val="autoZero"/>
        <c:auto val="1"/>
        <c:lblAlgn val="ctr"/>
        <c:lblOffset val="100"/>
        <c:noMultiLvlLbl val="0"/>
      </c:catAx>
      <c:valAx>
        <c:axId val="1158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31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2BB-07CD-4937-B2D0-7B584F55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553-5A6C-4257-951F-B08FBADC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63A-7246-4A57-B35C-92A769F3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E37-FD5B-4091-9AAB-1D0F6B04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EA5-237C-414A-8538-B2B4EDE1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48E-6124-46B3-BE06-641CE051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D57-B30F-486E-B6FE-43F144E2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BF0-A739-4B7E-A6C3-7ECB3E7D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73A-95D7-4316-BB91-FC7C6692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781-70F5-4C9E-BE78-CB2A519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809-7C53-4B41-90B1-3B964008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C81-4D94-47D0-8C58-8677B4A3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4DF5D-E08C-48FB-9183-9C928CFBCE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