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56569"/>
        <c:axId val="39939402"/>
      </c:barChart>
      <c:catAx>
        <c:axId val="60556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39402"/>
        <c:crosses val="autoZero"/>
        <c:auto val="1"/>
        <c:lblAlgn val="ctr"/>
        <c:lblOffset val="100"/>
        <c:noMultiLvlLbl val="0"/>
      </c:catAx>
      <c:valAx>
        <c:axId val="399394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56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CD7-3546-45EA-9714-45084A07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E43-06BC-42B1-8427-9C05577F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9FE-9789-4125-8CFC-529D23B5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8A7-467A-4534-997F-28AF3E4C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B8D-CC4E-4F23-87C9-619F037B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B700-8216-4467-99E5-11055531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12C3-5B6C-4459-AA09-0A04E439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8044-9EAD-46DC-A689-B6CB976B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672-08CD-4793-8BE4-574E12DF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F5B-2421-4A79-8121-70FFC9E7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562-63D9-4CD3-AA41-8958BB0A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789F-DBDD-4DBE-A19D-04D2F6B1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68AAF-742E-426C-9801-1F024A7E07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