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40004"/>
        <c:axId val="16944404"/>
      </c:barChart>
      <c:catAx>
        <c:axId val="68340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44404"/>
        <c:crosses val="autoZero"/>
        <c:auto val="1"/>
        <c:lblAlgn val="ctr"/>
        <c:lblOffset val="100"/>
        <c:noMultiLvlLbl val="0"/>
      </c:catAx>
      <c:valAx>
        <c:axId val="16944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40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BCA-2C6C-420F-86B4-CD3C431F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B49-9486-47E1-9E29-6209766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709-A80E-41C9-A84D-19AA2F04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CE9-D93D-4980-A6FD-E5CE81D2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806-A556-480F-8423-56EE8EAA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438-68B3-4E29-9C1C-684C5C9A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90D-F110-4138-A366-AC98E64A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F46-6E16-47D8-AE54-92ADB518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83C-8775-42FA-B8C2-926EF69A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DFE-2D9F-40FC-AF2D-84FEBD0E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A4A-7699-47BB-ADBA-F9BEA72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0EA-91F8-4043-A794-5933301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23C2E-EEE4-40B3-AD58-71D71F65AC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