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2815"/>
        <c:axId val="43834149"/>
      </c:barChart>
      <c:catAx>
        <c:axId val="1542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34149"/>
        <c:crosses val="autoZero"/>
        <c:auto val="1"/>
        <c:lblAlgn val="ctr"/>
        <c:lblOffset val="100"/>
        <c:noMultiLvlLbl val="0"/>
      </c:catAx>
      <c:valAx>
        <c:axId val="43834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2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0A2-81A4-4A67-A19F-E2103677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827-3006-4556-A4E5-B4476702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E80-2875-4AA7-AA88-E7F69011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325-9A9F-44E2-ACA2-DEAEA4E8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25A-9421-4B2C-ADCB-5822875C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B2A-A904-444A-AC8C-7373A998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60B-EFCB-4972-A186-D9554E01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D03-8FF6-41D9-9087-34DA712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08A-91F8-4B9C-86E9-9578BDEF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252-109E-48B9-8CFE-5B2458E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37C-E131-42AE-B29C-17FE9541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C3F-E4DE-4DE9-B7E2-028AC7FC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F2C71-45EB-4ADD-9B92-1B15DFE7B1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