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40862"/>
        <c:axId val="27308354"/>
      </c:barChart>
      <c:catAx>
        <c:axId val="41840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08354"/>
        <c:crosses val="autoZero"/>
        <c:auto val="1"/>
        <c:lblAlgn val="ctr"/>
        <c:lblOffset val="100"/>
        <c:noMultiLvlLbl val="0"/>
      </c:catAx>
      <c:valAx>
        <c:axId val="273083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40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8E1-6AB1-42F7-82F0-6A70F897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52E-C4E5-43F7-BD7E-B5429A06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1ED-5440-4921-9E7D-96FCD6A8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B42-113A-40E0-82FC-71E2FBC8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4CE-6776-48BC-BDE6-0B7FF1D8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A0F-74AA-4023-BC38-C1DA880F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E61-718E-4B92-9F72-19A16917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CA5-3607-487D-9267-7F105027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B61-CA96-4FD6-B583-6E19284F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493-8EE9-4E06-8600-D31619FC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C37-33FD-404C-B2FC-3B77E8EA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AD6-B9E2-4C73-9DD8-ADA559DB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3EB25-D2E2-48BC-B23D-191580619A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