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21826"/>
        <c:axId val="75939551"/>
      </c:barChart>
      <c:catAx>
        <c:axId val="70621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9551"/>
        <c:crosses val="autoZero"/>
        <c:auto val="1"/>
        <c:lblAlgn val="ctr"/>
        <c:lblOffset val="100"/>
        <c:noMultiLvlLbl val="0"/>
      </c:catAx>
      <c:valAx>
        <c:axId val="75939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1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D75-DF43-46D4-AA2F-AD1921C4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026-6204-4622-9A9B-D8156C5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9A6-D50A-43CE-9D4C-7556B808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E29-BEBE-4063-80A4-2E233D0B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A00-A62C-468C-99AB-561A197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E4F-DCDF-4E2C-83CB-0625AB6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A4D-CEDE-4D33-BE62-09AD3EB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F41-26E7-44A4-BBEB-AE3CD9C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D48-7EA1-4A8B-8AA5-4586528F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CEE-82FF-4EB3-ADE9-D7C4283D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FD5-634B-47D0-83A3-3B41333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A69-02EA-414A-85F8-5EE13C00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3AE01-960C-4172-98C7-4BEFA21DDC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