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44026"/>
        <c:axId val="45269005"/>
      </c:barChart>
      <c:catAx>
        <c:axId val="73744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69005"/>
        <c:crosses val="autoZero"/>
        <c:auto val="1"/>
        <c:lblAlgn val="ctr"/>
        <c:lblOffset val="100"/>
        <c:noMultiLvlLbl val="0"/>
      </c:catAx>
      <c:valAx>
        <c:axId val="45269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44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F73-4A3A-49D7-9135-8B08DC5B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6EF-CCB9-4ADD-AB93-BC39570B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677-05DB-403C-9126-8CA2763C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22E-AA48-4C9B-9CED-6FE55CF0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99B-F513-471E-B750-9BECA57C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81A-7751-4872-BF07-767C56FD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699-0F89-4512-95EB-E5FFA04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348-6109-4120-872F-9E14BC78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C9B-A551-49ED-838B-A53D5166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F0B-E2F8-443B-919C-1EDBB253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BA7-BA9D-4195-8FE0-F0CC7BE4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8AB-6C75-48B8-9B07-C55414A3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8ECF0-9963-4BDE-A591-C8B2C2F148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