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30030"/>
        <c:axId val="82799239"/>
      </c:barChart>
      <c:catAx>
        <c:axId val="22030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99239"/>
        <c:crosses val="autoZero"/>
        <c:auto val="1"/>
        <c:lblAlgn val="ctr"/>
        <c:lblOffset val="100"/>
        <c:noMultiLvlLbl val="0"/>
      </c:catAx>
      <c:valAx>
        <c:axId val="82799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30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639-A4C6-4FF7-95C4-2EBBFFC9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391-30E2-4F20-9BE1-B5E34FD0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8B3-652C-4FDE-8D3B-41D7905C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4A2-DED8-4E87-B0EF-C67C7804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605C-745D-452B-9BCD-F88C73C0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017-61CF-4DE2-A9D1-146FD357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A4E-CC81-471C-BE8C-BA981C6B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DFA-0046-48FA-BF62-8A3FE583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1AC-AAAD-44D6-84DD-40703A57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4F0-83BA-49CD-B944-61D7B904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843-386D-4281-8475-C3515620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325-5082-4C42-9F07-74B6D7CE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CFEDF-D94C-4D77-A4C4-5592814897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