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44087"/>
        <c:axId val="75425530"/>
      </c:barChart>
      <c:catAx>
        <c:axId val="20044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5530"/>
        <c:crosses val="autoZero"/>
        <c:auto val="1"/>
        <c:lblAlgn val="ctr"/>
        <c:lblOffset val="100"/>
        <c:noMultiLvlLbl val="0"/>
      </c:catAx>
      <c:valAx>
        <c:axId val="75425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44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1CB-3281-465D-B3A5-9C51C76E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18D-9D6A-4E51-928A-7E117DF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4F7-3741-43B3-B424-119AF594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B10-B99D-46DE-AB46-0F5D5E12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885-4E60-4186-8228-3569390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5E2-3A8A-4C18-8CE1-CE52B153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11C-AAF1-450C-99BB-B6324FCF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795-901E-497D-A6FA-070CC03D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4EE-CF05-4825-A221-A909955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28C-35E8-4230-9E93-C810128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F99-AD88-434E-9CAD-2457019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E36-EE29-4750-8F47-A1128576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6DBB9-CDF8-4A8C-AB38-80E55B6750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