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658087"/>
        <c:axId val="18802807"/>
      </c:barChart>
      <c:catAx>
        <c:axId val="466580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02807"/>
        <c:crosses val="autoZero"/>
        <c:auto val="1"/>
        <c:lblAlgn val="ctr"/>
        <c:lblOffset val="100"/>
        <c:noMultiLvlLbl val="0"/>
      </c:catAx>
      <c:valAx>
        <c:axId val="188028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6580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11DD-B766-4714-AFE7-6509A8957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1B96-832E-437C-93EC-1ECC840E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F586-601E-448B-B1B1-4D3119D04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F9F4-08E4-4BFE-A306-1CD9D84F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D0E0-D715-42E9-A445-948F3796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5B94-352C-4CE1-B2E2-B34415C9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BEAE-362A-4A41-B6F5-6065E616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F201-301D-4BA9-9A41-108C9FA8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3EC4-C6FA-43AE-BD1C-F816C952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F170-5A47-4516-BC2E-1B85A8DC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7057-98A3-429C-816D-F6A5E024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E03C-F859-4B98-9D05-E1A33EED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60FB8-BADE-46AC-876D-78C3E74D03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