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044958"/>
        <c:axId val="68240480"/>
      </c:barChart>
      <c:catAx>
        <c:axId val="830449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40480"/>
        <c:crosses val="autoZero"/>
        <c:auto val="1"/>
        <c:lblAlgn val="ctr"/>
        <c:lblOffset val="100"/>
        <c:noMultiLvlLbl val="0"/>
      </c:catAx>
      <c:valAx>
        <c:axId val="682404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449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BAF-09CB-4797-A891-41771E1B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186E-D6BC-410D-A9BE-C03916BF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F7C6-D56D-48FE-93ED-89ADACAD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C3DE-63D5-45A3-827C-A31323AE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614-DD88-42BD-85DC-1AB7C722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F23E-85F1-4BEA-8FA7-068DA021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7DC3-DCC5-46CA-897E-9FCCD038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D9C6-5B85-4EB9-A36D-53062427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18C3-C6E4-4A0A-A44A-F44A9D29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0FC2-5685-4EA2-9F3D-A81E9FD7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1B9C-A6D3-44B1-9C7A-7D352326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C044-4463-4327-BE1A-379D64AF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96F6A-F1A2-4952-B503-D4E6F3A1F0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