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46879"/>
        <c:axId val="60636644"/>
      </c:barChart>
      <c:catAx>
        <c:axId val="64546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36644"/>
        <c:crosses val="autoZero"/>
        <c:auto val="1"/>
        <c:lblAlgn val="ctr"/>
        <c:lblOffset val="100"/>
        <c:noMultiLvlLbl val="0"/>
      </c:catAx>
      <c:valAx>
        <c:axId val="60636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46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781-54E9-493E-891C-859D60BD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01C-958F-4743-A566-AB47E794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FE5-59E0-47DE-B84C-F6824528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88E-05FC-41B8-B7C7-61D95495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65B8-9BE7-4C55-B734-A3B8EDBA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F64-5CA2-4E7C-AAC2-2D4AAA93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9F5-87FA-4B4F-992B-A1D140D0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05E-431E-4420-8DC2-D052C504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9E16-5C57-446B-ACC4-02D7A02A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A10-43DE-4F6E-ABE2-731B8A6D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417-40B4-401D-B80E-1EAFDEE1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F80-D839-499A-9878-E166D21D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A7010-7834-4024-8B3C-7C5E92EABD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