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60815"/>
        <c:axId val="29313557"/>
      </c:barChart>
      <c:catAx>
        <c:axId val="299608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13557"/>
        <c:crosses val="autoZero"/>
        <c:auto val="1"/>
        <c:lblAlgn val="ctr"/>
        <c:lblOffset val="100"/>
        <c:noMultiLvlLbl val="0"/>
      </c:catAx>
      <c:valAx>
        <c:axId val="293135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608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CADF-2262-43A4-959B-16F777CE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82AA-9633-4277-A8BB-B5C669BD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EE7-2139-4A73-B30C-900D45F9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0072-5C4C-40EF-9F93-844502A2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5AC8-FAD0-4CA1-A040-3967F1C9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69B3-9EFB-4EBB-9B47-179E727A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F7C-9E17-4103-92BB-AE496673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1558-700A-4D9E-93BC-132D16A8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623-8D68-4797-A7D8-C231D760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B682-579E-4940-BA0D-5B165971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E41-6410-41AC-964E-8C40EEE2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BF0-A079-4F7E-B240-F06228C8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4A990-D75F-4FC5-9A99-4767AD7448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