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601669"/>
        <c:axId val="52719942"/>
      </c:barChart>
      <c:catAx>
        <c:axId val="75601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19942"/>
        <c:crosses val="autoZero"/>
        <c:auto val="1"/>
        <c:lblAlgn val="ctr"/>
        <c:lblOffset val="100"/>
        <c:noMultiLvlLbl val="0"/>
      </c:catAx>
      <c:valAx>
        <c:axId val="52719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01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94A-4A04-4959-BF87-44521EFC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2D4-6B32-460C-A25C-4002E76F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8389-C9A5-41CE-B5FB-559DA13F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E48-E503-47DF-B721-7C800E7F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CBA-90E7-43A3-B134-B23FC06A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7BE-9B66-460D-8DB6-7A5EAA96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771-8022-496C-9A41-E2E0EDE4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D1CF-0A5E-4B9E-853F-BF2AEAD6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D3AC-7497-463C-97EA-84CB183D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40F6-CA3B-40A8-9E82-AE0E20E3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3A1C-E14A-49BE-B2FD-84A6BC9B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7D3-8385-4C3C-B778-E4C963F3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B4F60-5DF4-48EF-A7F8-2D0A852829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