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67926"/>
        <c:axId val="66652277"/>
      </c:barChart>
      <c:catAx>
        <c:axId val="94267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2277"/>
        <c:crosses val="autoZero"/>
        <c:auto val="1"/>
        <c:lblAlgn val="ctr"/>
        <c:lblOffset val="100"/>
        <c:noMultiLvlLbl val="0"/>
      </c:catAx>
      <c:valAx>
        <c:axId val="66652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67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EC6-080E-42C0-A679-5E91F65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430-DBC0-46E6-9EBD-2AE569C2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E92-3A54-405B-9722-D70867F9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38E-D274-4025-87A0-AB1D477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586-963C-453D-B829-19A6830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C0E-3DD2-4B09-81A4-A00D0F0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9AC-748B-40A1-B93B-B8F24EED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91F-3959-440D-9C4F-42B3603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A8-7D83-41A6-981F-DD55E751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BF5-ED9E-4F72-BC29-B283205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6F-A571-4AC3-BFDD-C9A6BB5F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684-3E59-4CBB-965C-7F621E8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2D720-B55A-45D7-9541-1FD98E1CB6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