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24331"/>
        <c:axId val="80709013"/>
      </c:barChart>
      <c:catAx>
        <c:axId val="73124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09013"/>
        <c:crosses val="autoZero"/>
        <c:auto val="1"/>
        <c:lblAlgn val="ctr"/>
        <c:lblOffset val="100"/>
        <c:noMultiLvlLbl val="0"/>
      </c:catAx>
      <c:valAx>
        <c:axId val="80709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24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F5A-2B58-460D-B507-F258B034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E31-BF0B-4DE2-9F48-4B20DA0B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54E-C21C-4AC1-9163-AF1B494C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354-B2E2-4457-9B7C-CFFBF23B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0E8-5344-4AF6-9DCD-2E11E17E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740-ACF0-47F3-9F45-3100D133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B55-60E2-4FF7-85E7-3DA7DED6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BD4-42C4-4A30-90B4-5857335A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01A-9D48-4BAF-AAB1-55D7A364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4F8-DD44-4993-8993-A74EE54B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2F3-44DF-4A53-A31E-C045DBE8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94E-809F-499A-B679-0BEDB345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99510-BF45-4D7A-884C-055C0B0F28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