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0818"/>
        <c:axId val="28303170"/>
      </c:barChart>
      <c:catAx>
        <c:axId val="2890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03170"/>
        <c:crosses val="autoZero"/>
        <c:auto val="1"/>
        <c:lblAlgn val="ctr"/>
        <c:lblOffset val="100"/>
        <c:noMultiLvlLbl val="0"/>
      </c:catAx>
      <c:valAx>
        <c:axId val="28303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0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917-8C53-441F-8215-85B583CE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94C-C3F9-40D5-91D0-94B7B233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07A-ED35-4636-A609-DBDE3A16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43A-13E0-4E07-B118-156DED12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4D0-F3BA-4C66-BC21-5D2C3A12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4130-6565-4416-9097-40456A79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7B4B-D92C-4812-A618-4FBC7BD7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5B2-119C-4809-8312-F300AC30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E08-8E5C-4088-8449-89A52594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B82-E55C-4465-8589-F1A7C851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3B2-75CF-4381-B4FB-9BE59B6D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1AD-1B79-4067-831C-21FBE092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DBFEC-AD6D-4CE8-A84F-B358B64D34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