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261712"/>
        <c:axId val="12357203"/>
      </c:barChart>
      <c:catAx>
        <c:axId val="562617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57203"/>
        <c:crosses val="autoZero"/>
        <c:auto val="1"/>
        <c:lblAlgn val="ctr"/>
        <c:lblOffset val="100"/>
        <c:noMultiLvlLbl val="0"/>
      </c:catAx>
      <c:valAx>
        <c:axId val="123572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617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DE41-E35F-4E98-AEC6-9CBC12889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1FF9-5F70-4BF8-8D61-C36A8072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ACF2-D49A-4723-BB62-21CA2A0D4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CB8A-707B-4AA4-9763-2AC35B5E4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ABEB-27B7-4FE4-A705-30A05CF1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1EBC-A61B-484F-89D7-3AFA5639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F8F3-C0BB-4460-A8B7-B0032B60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97F1-503B-4E8C-AA39-680E86A7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3578-DE41-4DB9-AAF3-4662F20E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B834-5C47-49A4-9E1A-1B52E4BA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EAF2-12DD-4F3C-9166-BF976E7C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A5CD-3C3A-456D-BC2B-C76A81BC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20A5A-DF87-4884-B84C-DF9C645F26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