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966733"/>
        <c:axId val="38139963"/>
      </c:barChart>
      <c:catAx>
        <c:axId val="979667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39963"/>
        <c:crosses val="autoZero"/>
        <c:auto val="1"/>
        <c:lblAlgn val="ctr"/>
        <c:lblOffset val="100"/>
        <c:noMultiLvlLbl val="0"/>
      </c:catAx>
      <c:valAx>
        <c:axId val="381399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667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2316-1024-4F5D-ACFD-3B52A3EE0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9C7E-8729-47E6-89B3-C26C7AFA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303E-6307-4840-893C-43485450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7CCC-054A-45DA-ADC8-8822A74F7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BEDE-9854-43DF-B5B4-4BBA64BE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5EBE-7F01-40A7-AB64-AD77E0D3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FAD4-E1CB-46A4-9731-8D026A5A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508D-85A8-4FE0-81CD-B30E1F02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1531-D373-4A6B-889E-076598EA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EE9F-6B1B-439C-B86E-4B44D7E7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3062-9E49-4CAC-BC96-CB26D333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AAB1-3554-4A1F-AEAB-44FF9A18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15625-FD41-4423-B550-BC9972BC58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