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80602"/>
        <c:axId val="59325109"/>
      </c:barChart>
      <c:catAx>
        <c:axId val="34480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25109"/>
        <c:crosses val="autoZero"/>
        <c:auto val="1"/>
        <c:lblAlgn val="ctr"/>
        <c:lblOffset val="100"/>
        <c:noMultiLvlLbl val="0"/>
      </c:catAx>
      <c:valAx>
        <c:axId val="59325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80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B3E-AC1A-4CF9-A89C-7FD60316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5D3-FD37-4E48-A0F5-DB58D42F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4DD-22F4-4A93-8C80-BAF888DE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284-B5F8-42DF-8600-3292A015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278-3135-49AC-9B43-74B6540F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7F9-C7EE-435B-9ABE-BD5F8C79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ADA-C6BF-46C6-8DDD-E9AC9890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D6F-9323-473C-9D57-74B69D72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540-84D2-4AAD-BB18-57C87F8D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05A-29C0-47F0-A276-4A58356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81F-E831-4710-A845-DF086FE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37F-5F29-4914-BB2C-D61715D3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3D95B-398F-455D-896A-A59DF83B5A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