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966892"/>
        <c:axId val="77990426"/>
      </c:barChart>
      <c:catAx>
        <c:axId val="289668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990426"/>
        <c:crosses val="autoZero"/>
        <c:auto val="1"/>
        <c:lblAlgn val="ctr"/>
        <c:lblOffset val="100"/>
        <c:noMultiLvlLbl val="0"/>
      </c:catAx>
      <c:valAx>
        <c:axId val="779904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9668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D4AE-3CD3-42FF-93C0-A5BB9C5F6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8C0C-9A8B-43D4-AA04-D72A00DFB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A93D-8580-410D-B288-AF50575C8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74EE-BFCC-4DA0-94F2-C32DD0391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D65A-71D0-4912-9BC8-483636364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8650-001C-47AC-B778-88F0D6330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1C23-1F1D-4B90-822B-449228D1D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0BE1-C8FA-4A07-86EA-8F6B143B7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5935-E668-4925-8932-FE9DC9008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D68F-2D18-41DC-BADF-7AD889E6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EAE2-9D1D-4C8E-84B7-404B2399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723F-C4E1-4995-95D7-E1D1D7D47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0A82E0-3F20-4DA2-97D0-4730002D6D2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